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0F7C-70C2-48C5-9757-FBFB95A9C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1D02-404D-412E-8DE8-70FD6D5D368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7506-FED1-4DD4-8906-6F56DF453A7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47F91C-7C61-458A-B6B2-11E2DDE0A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314D38-D119-4AB3-A3AB-6FEB90BEC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32F289FE-A521-4CF2-9277-CC2B8620063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2099470B-96CC-4442-98F3-462D058DB9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CE89BC34-10E3-454E-A73A-E5634D5811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E845898B-04F2-472F-BB4F-A6B89A71DD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9F0A51C-E32F-489B-86E8-40D9D84608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EE7223C-9680-49CA-A091-8EB5970604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56073FB5-44C5-4D1F-9A65-334E96AF20C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FE0F1A48-3C15-4BE8-B7E0-27833BD4982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920E3F76-1D43-4532-BD7B-BDA550350B5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9A747AF9-163E-48FB-A0D8-AC802886D56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ABCD78-A2A1-46C8-81C2-243E65001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E5BAF7E1-6ACA-4A7B-80AE-E6515696BED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5198465F-F64F-463E-8DBA-9DC6D0E9EF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661EC23B-2CFD-47F1-9AEA-FC4568A116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28E14E2-449D-4410-A4CA-B12B424FE72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65C0084D-D98C-4CFC-8945-75097344B3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7AD352D-568E-4BEB-9777-536D2FDEC0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37CD0036-585C-49CF-874F-8883426ACD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8EEAAB4-9F0B-4925-BD2E-43B352D00C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22CFC1E8-607C-4384-9598-350C2B6C61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82F566C4-4DA2-4BD4-A30A-0AC1002A49F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837626-66CB-4ED9-BD3A-962F20E87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1612B465-B73F-4C17-8381-F1697E7DDE7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128DDDE9-0527-4E40-953E-4653DD08995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36C4930-E10F-4302-83E0-66384F7DCB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F706CD91-0F20-4840-9D9B-9BA80300D3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C28DF1E-8235-490F-A85B-FFB1A30A418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21144B4-6728-446A-B9B1-5F02A0C994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959DD07B-7DA2-4C68-9D53-41B32D6AE8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DF0B12C5-3CCD-4248-86B7-8F76EB97EF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0A4BBD1-5332-49E2-8F29-EA208B32E2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97E87BC1-44A4-401E-9079-3477D8A41E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098E4-11E5-493E-AF63-A48A59133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67B8D2EC-8673-46E1-A530-2F8831BF610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5BFE8075-CED3-476D-9F08-788A557BC06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A3AD00E5-29A9-4F59-B393-033B88C831F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CF98D645-0303-490A-8510-9801095D0A5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53F44D4B-BE54-44D2-9823-F52B4F33806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359B54EA-679D-4317-9C26-080A3713FDC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E70F85B6-0FE8-421A-B87D-7568D35EEA2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FEA8FEC-9187-4181-A75A-7ADC5AB01EE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2A8FC3C7-0793-4264-93C8-9E6BDAAD7A7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7225103C-5B08-48B4-A666-17345606C63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60CCD-8DD4-4D9F-B225-595334D04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A4B8B9C7-5CD0-4092-BF2C-CFBEFBB0788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9DFE8D3B-F329-4617-9AE7-70811F8DD64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4AB01A1A-3AE9-47B0-AB26-5C5B041D112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18C82B06-541D-4740-B4CB-3C1B44709DE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A2497792-F2EE-4222-8C97-8A40D0F8B95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CBF7488B-D41F-4C50-9F28-E7D068F72FD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01E1465A-5E29-414B-9389-B3EA4B9C1DB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6367E3F1-E585-4A57-949C-C4CF4E57A30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0498C426-8F04-460D-8170-2C3038E9806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3AEB115F-1BF3-4C90-A040-E0AFFE2F0B1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9A5E-6B8F-48D3-8873-32B926BFE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9953A989-961F-4941-83BA-D87D6838B91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59F5431-3075-4600-BBE4-B297D78722E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77E6092B-D11C-40D0-A6D4-328394DB5C2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34A20A9E-4F64-45BC-BFF4-3227AFBA052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7123335F-AC68-4E17-8E81-92B9E754AEA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06DA073C-AF00-4CBE-B4D1-9E36F89B21A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DD2A42FD-025F-43C1-9566-17E8D3CC9A1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54683F8-3286-4265-AB83-F6ABBA98D13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0FA38FF-1EFD-47A7-9DE3-171407E11B8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323AFEC-9D1C-42D2-87F8-D23DFB43F27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CFB56-F193-4F96-A06D-5B1D7C809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CE6C2AD-AE36-4173-AE49-4CF45E5E326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9DA0CD9-9976-478E-9666-2B90A2FDBB7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32CCDCA-DF2C-4C48-90A6-EC9DD83CF02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0D3DBEB-28EC-44BA-ADFE-6805D6B6D57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C5E4A75-F6AC-483B-90D4-BFFD05A76C6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AD3B524-DC8C-4DD6-B636-59B5B67F568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93CCEC5-D430-4060-89CB-FA9B8CCE828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BBF11F6-C6E5-4CF1-95CF-35FE5433CFA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483B670-3353-4943-810A-5C37DB7870D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4EFE2DF-F230-41D5-812D-A9FCDD445BF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BB657-4814-4528-8DB5-A1D218804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800405A-1DF4-4EA0-BF6E-A8743A39440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3BD5B3F-8D36-4DCB-9E8D-3865C2A4403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AC2AF1A-2763-4C8E-951C-C4F2FAEE63C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58C36F2-12BD-4271-BDB3-D9EEEA494E5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DAABC88-D9EB-4DF1-8989-7A7977BDAEB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DCC0911-0299-41A6-AA01-0CE30B55EE4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32BA280-B53A-402A-95E2-84BABD3B7CD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24D4A6F-8B29-4040-882F-05AF6E3030E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51C2AFC-774D-41B0-9F0D-503CA6816D3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DD0830A5-AE9C-481E-84EE-0927EEA7684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333A7-78E9-43DC-A287-26703B845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13418CE-C0E3-4486-9F35-C5A2DB67E11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EA7D6E93-E444-4AF2-B243-8E3F9916D24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5618CFD-FBE1-48BD-9758-2040BFE5D76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8FAD33C-E6ED-4FB9-A35A-AF45971936A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B81D614-D24F-4F24-8A99-DA8E7DBEBA9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36EF03A-731A-41C3-A19E-F92B1FEF716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D0C0451-D32D-4EA6-AF87-EF09915C986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DC0E6CC-ADEC-4FD5-8EF3-BE3CFB98A57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BE09D38-D0BB-4A5E-8B36-353A022555B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19B3085-6455-4D3A-BAC4-67C355E152D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5EB7A-B42A-4620-A0B6-DD344AA91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44897A9-AAC1-4FC6-8946-C4D616261B1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8CEC725-F523-40B3-B33C-8E343D8FD9B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51F6E59-C832-4B5A-9D64-EB8A15377DB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4B6A911-0625-4ABB-A1F9-B26EA731307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3D41F53-D3D6-4B99-889B-6301AFA82D9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96D4468-A7BE-4ECE-BDC0-38D32E07B9E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0B89FDB-DCFA-4086-BD65-4110E799D44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DCB325C-DC4D-43D8-A953-DA73DA2EB58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B24CF28-CC51-43E6-8EB6-E3F5EB4F05A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43AD40F-5089-4E42-912B-3C3ECCC9274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5BD8A5-E691-4035-9482-98BF77D1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D9FBD-0598-4CEF-A038-8F0DD6989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4E49F3E-0484-4129-A267-01346F881D2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8C1913F-0C97-4DA8-A98A-8B706D73EE5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721C841-8EE6-4933-A41B-4A52EB5A347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A81DDF13-7C34-4C66-827F-DFA29B3C887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84E3C5F-865D-4927-AEF6-3746C70A3DEB}"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3B432F6-CEAB-4B99-981C-0619A6516B8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BC5BD92-7A20-4146-91DA-5A4FDCF258C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5E1EC2A-C729-4E98-9DFD-C694A8DB594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C2762C6C-D11A-44F7-9CD4-06F1DCFA959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B8F639B-A50B-4744-9C24-1E5E75DD920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1F9F4-C91E-4B5B-A2FF-3EE3578E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8AD1443-6B9E-4C06-95E0-131C0582E45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1B5C3CA-9F46-4A4E-815A-A278307F427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7DCC2E3-C1FF-4DDB-BF11-76A12BBB455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2156FC2-BA56-4948-89EB-411DBFE10B7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E2AA5E0E-4599-42DB-9CB9-295DF5A7ABF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C2182057-3221-42B7-8E75-35F93C231C6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0B3AC68E-40D4-43FA-8CAE-D58025DDCFF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0C95FAF-596B-47B2-9F76-B1D3DCAD98C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B6AB994-E46C-4FAA-877A-4E490BA9DD1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D10D60A-2EE9-4751-8C29-7F3191F1934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9F0C1-7DD0-4822-AE99-7631DE7F7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D18B73B-11D7-4DAD-A07E-F1CF2C2362A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7BB31D3-9D05-4F68-B07A-992D2C0516E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EF841B9-2746-45C1-929F-B1F507E7899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5A9A9F6-DEE5-4A2B-B9AF-F458DAC4BC5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3BBFBDB-5796-405A-A6C6-EBE321AE12B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23FB876-65AF-4405-95D6-F577962038F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8D24FC0-494D-46A1-BC96-3B8E8236319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134B79C-2B53-4744-ABED-A2F86653BC8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D914837-E1A1-46C4-A8FB-B2129B9E060C}"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A036786-F3CB-40FE-8F63-C30C3C0CD9B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BC565-5951-457F-8F90-2D5ACA704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4682E63-E9D2-485C-8769-62CA5E8C221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3C2E7D7-4F5D-48DF-BC90-8FA01E0D4EB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EEB43DB-0471-4809-B006-1B943BC19E0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ED6E6D7-924D-47C2-B45A-00253D9B318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9829251-F89C-42A7-B8F6-1E2D669B501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DF06246-FE42-4BFF-8476-877222C4913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2E58667-C728-4867-A022-0E548C0B296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E162F98-2ECE-4651-8253-5ED43522E02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0B291C1-F611-4C3D-A9A5-36E49BBBFD0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A030ECA-E804-4E9F-BE8D-45EF03BC1C9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7C033-A071-450A-A1B7-B6B770291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16C45802-47A2-4E9E-9574-3B4FD927B7E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96DCAE7-B198-4987-9BE0-EC6C9D755F6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53A6F12-2082-422F-872F-C16DF799071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149E5E6-1228-4E2A-A135-8628B19AC67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BDF7F7A-3702-4497-8C84-822BC257DF5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8AD307E-F6A1-4F6E-8904-EB46CABE611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0958DDE-A965-46AA-B062-040E9A826A9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23513C0-ABED-4F02-A6B1-D6846533250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1464F0E-3B09-4D2F-88B7-E433260A7C2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5A02B73-E52D-4625-915D-F252FA61FFF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692C590-1D86-4DD4-8288-2B78BA0804E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F865426-2EF7-4BCF-9592-8A536D4DFD6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1BC9609-B9D3-479F-BA37-129C8FC055E2}"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102D19B-E992-43E6-B700-AE99A53EE668}"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B45E4D3-9A07-40D8-9D65-ADD2DD21801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EEEE120-7A08-4BBB-BC10-FBDCB6290D9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549687A-EE47-4600-80EF-BCA4979838A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8F32B17-E955-496F-8FE2-9124644C6BF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4574F00-ED53-4873-BF30-5BDD8B82D4B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7E9DF91-AD05-4368-9ADB-6B1495D5B5A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2C017ED-AB44-4E8F-A1C7-ED56B99AD19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6D4AD72-8107-46F5-A8DE-4BCB44C5DA6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2E33A33-493B-4833-B88A-259743788B5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1C2ED58-CEC4-4155-9338-8D18C7A0CB3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9B699A7-0757-4540-BBDE-40363D71C5C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0BDF9D67-34C6-43E5-978D-A3DB1F17BE70}"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57C756D-8EAF-442F-8473-E6588D9EDB2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56D9AFA2-FB8E-4ECC-A14A-935CDE20777F}"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706AB125-B7AE-468F-BE70-D7A6D1C2E3A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83BD551-36D1-4118-9DBA-917B6BD9A6A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0657CB6-A9AF-4B95-A717-4553FBE459A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D16DA1C-F1AF-4E04-A2D4-23C01D3DDC8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4871E58-2BD0-44C0-84C6-860454F71D2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497DB06-7ECC-43CE-8435-470F92219CD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912F2EF-D6FA-43AB-98A9-15F408D3A56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D93E825-9E87-4787-8581-C3BC0192259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9188A22-BB45-46FA-8E39-3E7058927F4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DEAC73E-4EB3-49F2-99C0-B3A249A6B47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A65619A2-01BB-4EC9-ACA7-6EF475F11D08}"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61165829-E917-4AC5-BE2D-FBA4F6A2D77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7FD41766-CB05-45BE-91EC-A9A2E4A552DF}"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B87FA808-22AE-4516-8D16-874E3E21A8B3}"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2B475A38-786C-4AA7-AC6B-81A625E037A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0C58EFF-65B5-4DCA-9065-066AB283D2A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DD337E5-76A7-443D-BE08-830D534264EF}"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75EE878D-B765-473C-A65E-3001085B8C8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78D7672-21AB-4D0A-AC4A-B3A29E2E624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29F7AB6B-C4CC-495C-AF20-A7497036A7A0}"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FAEB10E-193F-4D43-B1CB-DF5DA46E2B76}"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990196B-8EB4-4304-AE4A-4A82C295568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E6BFF01-ED7B-4164-A762-E6BC2C491D04}"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6517EE99-9211-4796-A0D9-972C36565F0F}"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138038B9-9200-43D9-B9D0-26B4572E847A}"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DAE9C917-C64A-4A60-A83C-09280878F3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1172F3-0140-492E-AAA2-75131F14462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F94FD5EE-1258-4D51-9CB9-031D610FCCC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0E89CE12-29A1-40F1-BC60-7085287235C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68250981-8043-46A1-97D8-CF90D0B8356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D350BD78-3648-4484-BFAC-020504C9B7B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6C702FED-EFA0-4969-8A70-AF9FEFB7BC0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49F197F3-AC69-4B6A-B23D-60230CAAB5C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B5088BFE-7461-47D6-9F2B-B9C0FAC39BB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74F1785C-E388-48E3-B2BF-39DDB368C93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B4842F4A-5460-470A-91B3-82845AAB0E7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0E1DBE8F-0C88-4E6C-AEB4-472D943F0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5C0EF5-34C5-42B3-BC8C-C03768874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45AD191-31EA-46ED-BB21-50D4BDB58DC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46641DEE-564D-4065-96AB-BFD9D5FB12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25CDC0-9629-4B77-BB46-B6D7727968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707FF7-3ACB-4F96-9384-CC44061C80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4AD1D77-2346-4932-A86E-DAAF0CC4A2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EF4C47-B41E-4E5F-9BE7-93EE5822EC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AA8082B-9721-4ADB-82CF-F8F13B48B8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BBA20EF-6352-431B-BC78-7839E2DE68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A0D006D-5985-48DE-8677-DE25001252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7D49F8E-AE8B-4DD5-84A3-91C426D307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0A5C1C3-D567-44AC-B689-5288CB2D51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AC2B08-246C-4E2F-90D3-743ED0736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85504EB-1ECF-4139-8473-AB454A0E73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BFC8E14-B0BD-4CF8-BA84-50545BDBAA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536F964-8EA2-4EAE-A02F-C45DE4AC1B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3C3E4EF-6119-4EB4-8636-8C7A901CB2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399582F-4AE9-4241-AE62-C36D41C4AE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168EB4-A56B-45C4-A3AE-92464DD948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1E646FB-FA0B-4B6B-97E2-B5B1B1C630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E5D8EC5-2079-4067-A78D-553C60024F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4754DD2-6427-4433-9DF2-2D4650C0A0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6315DC68-E560-42C7-A633-139022E0A8F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E4B850-37A2-4CDC-81A3-9A49DA54D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33E377B-136F-471E-AC36-394A748DAE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4B5D61D3-0815-48CA-A753-56451C094B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825B7BF-7E2C-4E0B-860D-C8A1F00966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B323FF0-2380-4440-BF17-3BE32428393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84587B4-0B15-4990-BB24-900F829FF3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7998DF6-67F9-4F13-9AF2-CA8486FBED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0F4B9C9-BEF6-4A57-80DE-23E0306796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26A808D-6B2E-403C-A53B-91992B25A7C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834B832-8DBC-459D-9E6A-79A6563E4F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34116FE1-94B5-4064-9B45-D89A65CFAEF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E07156-FC61-48C3-8A91-35D876B5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BBC79E35-E44A-4254-AB8E-8ED705F3104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1B816D63-2A58-487D-90CA-E7D096A349C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9E2E1D2A-831C-4BC1-97AB-2A7BC3DDAD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4339B6D3-CC90-4E60-88B7-13B19103FE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30D3D248-3F5D-4A51-8A11-E6EC2897000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9153071-E43B-4541-82F4-83480B61A9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F1CECB9-3EEF-4102-8018-C498B4F19F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7CACFBB-3C9C-4F7B-B786-B3CD12DFF3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084538D-5FC0-4C6C-9372-00F20D68F9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A431A98-7A3B-4F85-A909-A6BCD30807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57EED6-D898-4CCD-A4D3-CF24C343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F0BEAEE1-6D01-459C-9B65-7103061D6E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C54C75B9-FB63-472E-AD2D-7F7F41B1799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6AA9544-C94A-4440-84DB-19708DFC711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78E2AD06-13A1-436E-A761-D50D84457DE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75B27CB-0DE9-492D-8F30-343F5894E1B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FBAB09E-73A3-4D47-8947-A71E367967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DAEC109-E5B7-41A1-A4FD-EAB3B02BBB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F38918D-FE14-4D13-A4B2-3286E5BC7A8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858BB32-5F4E-4346-A5CE-2617CC039E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78304A8-4718-4A74-AB54-B0BA5CD8DE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79FDAA-F2D2-4DBB-9076-EFE5D724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7B02E02-E0BB-40B5-B73D-2485D9E42F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3ED8F92-715B-42DD-8CCB-4926FCC7AD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3B2EF72-200E-4A77-9AA3-3DC8C3F2A8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F7B1EA6-22FC-4C94-87C9-FB440E8E29C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2145AD18-9EC8-4C8E-8B6B-992EEFADDC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09AFB637-54F8-468D-8A67-09D879E2BD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B3429B70-FDFF-44A3-97AB-2659A8E6ED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94CE17B-1530-4084-A253-B7F0A77040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38335D03-5F39-41C0-8E07-ABBED4E304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65FACC0-0C4D-4009-AD65-E6F5BDCE95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EC26FA-9E14-4F95-AD79-7AB7CC09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D5EB8FC6-AB4A-4904-8113-8DA10BD558C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927B995-6B34-436A-BC70-62C9BA2389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037D3E2-0F9F-4573-83A3-5675A2DD27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586C0AAA-1945-4DC3-8D94-7606207E27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EFF9D81-F4F2-4A1C-BC7D-88EF954F50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97F441F6-0446-4368-9167-AFBD1837564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3FD49722-5C66-4838-9280-32E93C4B78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A337EF3F-B314-433B-B0E7-14CFD17273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4105CB5-0CAE-429A-A7B5-C1A81B907D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0AA6E58A-2FEA-44F0-B3EE-F94806DA96C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3579-70AC-4647-9A09-9CD74F63CAA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2442-3F7A-4351-9EF5-4C42C7F4485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6C19-EB07-47D0-9F49-AE5B90DDFB7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EBD7-C194-4473-839B-0DAF79E8532F}"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4063-E4BD-4270-A264-6220A302DB0E}"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3C14-D530-4F2D-A54C-0760FC45909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6339-E372-4F7D-A21B-775042E70A2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43FA-FC65-4637-AA58-13AA1583B9E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3D0C-BEDA-41BC-82A5-66F78C4076D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01A5-D4EF-4EE1-9CCB-8398353C2C4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BF14-9F3F-49B0-BE30-6708E94340C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5BFD-8BF2-4E00-B728-5481EC9B77E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7A12-A9FB-4403-BE83-7E7AD83625C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1F22-DC23-47EC-803B-2CF2C053195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0E84-8E1B-4E8D-A7B8-B296C236A9A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CCCC-29E3-4F36-81AE-39BB98D1D71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3F82-6BFB-4B6F-AFED-DF3265AED72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C277-5048-4F55-AEAB-34DF7348EE3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E681-8989-4950-81FE-42A75560C58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D7A1-21B1-4CB9-B8F0-A7AD9123D0B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2D78-68AA-43AB-A80E-9A3045D7E9D7}"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FEAE-080A-4FF9-987B-820B01DBE0BE}"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CFEE-BAB1-49D1-B32E-B6B6EB7F5B01}"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5EE9-4394-4931-A1FE-16737BC1DA6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DA17-0554-4453-9834-C4DD4F98123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0716-3F9C-44D3-BE67-8E9856A7EC8C}"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hapter Seven</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Ecommerce Strategy</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ategic positioning of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etitive advantage from ecommerce</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25B3-5938-4AB9-BF1B-522FDBDD8F67}"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net has impacted on the way we interacted with friends, carried out our business operatio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impacted on brand equity  of a fi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created competitive advant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built brand awareness in online markets through ecommerce rout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isting brand assets onlin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etitive ecommerce initiatives</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F634-2EE7-4502-A1F0-C810247DA1AE}"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ASE : Indian Railways – strategic initiatives using ecommerce</a:t>
            </a:r>
            <a:br>
              <a:rPr sz="2000"/>
            </a:br>
            <a:endParaRPr b="0" lang="en-US" sz="2000" spc="-1" strike="noStrike">
              <a:solidFill>
                <a:srgbClr val="464653"/>
              </a:solidFill>
              <a:latin typeface="Bookman Old Style"/>
            </a:endParaRPr>
          </a:p>
        </p:txBody>
      </p:sp>
      <p:sp>
        <p:nvSpPr>
          <p:cNvPr id="1075" name=""/>
          <p:cNvSpPr txBox="1"/>
          <p:nvPr/>
        </p:nvSpPr>
        <p:spPr>
          <a:xfrm>
            <a:off x="304920" y="2133720"/>
            <a:ext cx="8229600" cy="838080"/>
          </a:xfrm>
          <a:prstGeom prst="rect">
            <a:avLst/>
          </a:prstGeom>
          <a:noFill/>
          <a:ln w="0">
            <a:noFill/>
          </a:ln>
        </p:spPr>
        <p:txBody>
          <a:bodyPr anchor="t">
            <a:normAutofit fontScale="39000"/>
          </a:bodyPr>
          <a:p>
            <a:pPr marL="106200" indent="-1062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he company initially dealt with automating business processes only. It provided ticketing facilities to customers who benefitted from its transparent operations (through ecommerce). Today, it has used ecommerce to collaborate with other logistics partners to provide tourism services, hotel accommodation, flight tickets. This case can also be compared with Amazon.com, where using ecommerce capabilities, they have taken strategic initiatives to provide kindle and tablet based ebooks.</a:t>
            </a:r>
            <a:endParaRPr b="0" lang="en-US" sz="26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0B7C-72B6-4531-801B-10B2D56EC143}"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Brand equity through ecommerce</a:t>
            </a:r>
            <a:endParaRPr b="0" lang="en-US" sz="3200" spc="-1" strike="noStrike">
              <a:solidFill>
                <a:srgbClr val="464653"/>
              </a:solidFill>
              <a:latin typeface="Bookman Old Style"/>
            </a:endParaRPr>
          </a:p>
        </p:txBody>
      </p:sp>
      <p:sp>
        <p:nvSpPr>
          <p:cNvPr id="10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tracts good human resource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justifies higher margin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builds influence over distribution channel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akes time to be built over time by </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sting in mass-media advertising </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liable customer servi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through ecommerce</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moves constraints of geography</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imeliness, </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 reduced cos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Mass advertisemen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eper reach</a:t>
            </a:r>
            <a:endParaRPr b="0" lang="en-US" sz="2000" spc="-1" strike="noStrike">
              <a:solidFill>
                <a:srgbClr val="464653"/>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0D80-9DB8-4FD7-912C-AC1A0C44385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59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Bookman Old Style"/>
              </a:rPr>
              <a:t>Assessing readiness of existing brands</a:t>
            </a:r>
            <a:endParaRPr b="0" lang="en-US" sz="2800" spc="-1" strike="noStrike">
              <a:solidFill>
                <a:srgbClr val="464653"/>
              </a:solidFill>
              <a:latin typeface="Bookman Old Style"/>
            </a:endParaRPr>
          </a:p>
        </p:txBody>
      </p:sp>
      <p:sp>
        <p:nvSpPr>
          <p:cNvPr id="1083" name=""/>
          <p:cNvSpPr txBox="1"/>
          <p:nvPr/>
        </p:nvSpPr>
        <p:spPr>
          <a:xfrm>
            <a:off x="457200" y="1066320"/>
            <a:ext cx="822960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termine brand equity</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isks involved in being the first mover in the industry</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eadiness of customers for online surfing</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brand compatibility with ecommerce and online marketing </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degree of transparency for the products (in terms of product information, pricing </a:t>
            </a:r>
            <a:endParaRPr b="0" lang="en-US" sz="17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ignment with changing customer behavior</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encourages customer-to-customer communications</a:t>
            </a:r>
            <a:endParaRPr b="0" lang="en-US" sz="1800" spc="-1" strike="noStrike">
              <a:solidFill>
                <a:srgbClr val="464653"/>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C641-626F-40F6-9571-E55579A2816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remain competitive in ecommerce business, a firm should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crease in repeat busine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interactive technolog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Creating a brand equit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Strategic initiative to collaborate with business partn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Advertisement (digita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nsistent performance</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3EC4-5720-483E-BE27-CF922C7B63C5}"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3:44:24Z</dcterms:modified>
  <cp:revision>403</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